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B79-D364-435E-A015-A82D688074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A4B3-291E-4CF2-A9DC-3A04E816DEB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D55B-144F-474F-8FBA-B0923618CD5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64B-BFE0-4ECF-B7AE-DA6A5248F8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0C6-13AB-4E07-9B17-1BA074A793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F0D-C1C4-41A8-8CFA-DBB6C477ED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A47F-B605-488D-A9D4-7B7B059A28D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432E-027E-4DDC-A3EA-93F84752AC8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3C6A-20F9-4DC9-9443-F97591564DB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608-652B-404B-B3C2-ADF1D02063B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887-A209-4FFA-841C-BC7027C1C0C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8A3F-0213-4096-854F-18FB6C555A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9E1-0E5B-4167-8544-F20E640354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D331-26D0-4B00-ABEE-7C5EAC04A9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3E98-FD08-4DAB-B969-DB5451F2F49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BAE-4767-487D-BF52-A5A5DA68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697-B519-4A61-8D32-7EEB72C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642-B58E-4D1D-AB1F-FE6C8894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F25-9895-476F-A5C0-73D7DFB7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05E-B130-4A6F-BC92-6AA340F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87F-4247-46C6-B002-FFD18AB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260-7B37-4B1D-8402-EAF5719E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31D-4FAD-4596-93E9-17209054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D7D-2A17-4C30-BDF2-DC0A0F83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95A-ABB4-49B7-B792-DC3D4F8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5FA-CDE5-42A2-933B-433C47CB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945-C115-495F-8901-4276FD4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0E8-9DC1-4549-BA7A-578A9860119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jornalismo@angra.rj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trabalhos\SP\usufruto\projeto-viagem\capa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ixaDeTexto 2"/>
          <p:cNvSpPr/>
          <p:nvPr/>
        </p:nvSpPr>
        <p:spPr>
          <a:xfrm>
            <a:off x="895680" y="1428840"/>
            <a:ext cx="6398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LV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 suite com cama de c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NDRÉ FUSK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 quarto simples com cama de c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RODU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4 quartos simples (1 pessoa cada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 quarto du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TEL 5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ixar em cada quarto uma garrafa de 2l de água mineral por 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918360" y="78588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ROOM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2"/>
          <p:cNvSpPr/>
          <p:nvPr/>
        </p:nvSpPr>
        <p:spPr>
          <a:xfrm>
            <a:off x="714240" y="1357200"/>
            <a:ext cx="7858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 noite de sexta-feira, dia 20, na Festa Internacional de Teatro de Angra 2009 (Fita), foi a vez de 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uma das peças mais aguardadas das 62 encenadas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nos três palcos montados para esta edição. Lúcia Veríssimo e Raphael Viana mostraram ao público angrense a peça “Usufruto”...  O público pôde finalmente conhecer o texto de Lúcia Veríssimo, estreando como autora teatral, e ver as cenas picantes que tanto deram o que falar e causaram expectativas. Usufruto mostra a relação de dois desconhecidos – uma mulher de quase 50 anos com um homem de 30 – que se encontram em um apartamento vazio que ambos pretendem alugar. Desse encontro surge uma diálogo cheio de provocações e trocas de intimidade. O texto fala sobre amor, sexo, relacionamento e infidelidade.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pesar de ser uma estréia, os atores estavam afinados e tudo correu muito bem...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Os atores e o diretor José Possi Neto voltaram ao palco para receber homenagens e foram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muito aplaudidos pelo públic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.(Publicada em 21/11/2009 pela </a:t>
            </a:r>
            <a:r>
              <a:rPr b="0" lang="pt-B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secretaria de Comunicação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 de Angra dos Reis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pós uma ausência de cinco anos, Lúcia Veríssimo está de volta aos palcos e é protagonista de uma peça escrita por ela mesma, a primeira, chamada "Usufruto"... Com ele, Lúcia quer assumidamente provocar a platéia e dar uma sacudida na nova geração, que ela considera apática e conservado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Marcia Abos O GLOB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98200" y="78588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CL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3"/>
          <p:cNvSpPr/>
          <p:nvPr/>
        </p:nvSpPr>
        <p:spPr>
          <a:xfrm>
            <a:off x="781920" y="1785960"/>
            <a:ext cx="318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TEATROS GR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C #50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C #35: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tlight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urce Par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 #5: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esnel: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ndor: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95040" y="78588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RIDER DE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4297680" y="1785960"/>
            <a:ext cx="320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TEATRO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C #50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C #35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tlight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 #5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esnel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ndor: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3"/>
          <p:cNvSpPr/>
          <p:nvPr/>
        </p:nvSpPr>
        <p:spPr>
          <a:xfrm>
            <a:off x="878760" y="492912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Mesa Digitar de preferência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ixaDeTexto 3"/>
          <p:cNvSpPr/>
          <p:nvPr/>
        </p:nvSpPr>
        <p:spPr>
          <a:xfrm>
            <a:off x="785880" y="1357200"/>
            <a:ext cx="764388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1- PA COMPÁTIVEL COM  O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1 - MESA DE SOM - 12 CA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1- EQUALIZADOR 31 B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1 - PROCESSADOR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2 - CD PLAYER CDJ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2 - CAIXAS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2 - MON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7-MICROFONES CONDENSADORES (PARA AMBIENT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ASY FLEX, EZO, CARDIÓIDE, da SH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1-MICROFONE S/F EM UHF BASTÃO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ODA FIAÇÃO NECESSÁRIA PARA MONTAGEM DO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S MICROFONES SÓ SERÃO NECESSÁRIOS EM TEATROS ACIMA DE 600 LUGARES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980640" y="78588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RIDER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ixaDeTexto 2"/>
          <p:cNvSpPr/>
          <p:nvPr/>
        </p:nvSpPr>
        <p:spPr>
          <a:xfrm>
            <a:off x="857160" y="1422360"/>
            <a:ext cx="7429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arina P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11 787568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55*82*495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11 94800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21 918577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sufruto@luciaverissimo.com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910440" y="78588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CONT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3"/>
          <p:cNvSpPr/>
          <p:nvPr/>
        </p:nvSpPr>
        <p:spPr>
          <a:xfrm>
            <a:off x="285840" y="500040"/>
            <a:ext cx="37861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eeece1"/>
                </a:solidFill>
                <a:latin typeface="Calibri"/>
              </a:rPr>
              <a:t>Quais caminhos a mente humana é capaz de percorrer para alcançar seus propósitos? Até onde esses caminhos são sadios ou ultrapassam as fronteiras da moralidade? </a:t>
            </a:r>
            <a:br>
              <a:rPr sz="1700"/>
            </a:br>
            <a:br>
              <a:rPr sz="1700"/>
            </a:br>
            <a:r>
              <a:rPr b="0" lang="pt-BR" sz="1700" spc="-1" strike="noStrike">
                <a:solidFill>
                  <a:srgbClr val="eeece1"/>
                </a:solidFill>
                <a:latin typeface="Calibri"/>
              </a:rPr>
              <a:t>Baseada nessas questões a atriz Lúcia Veríssimo escreveu seu primeiro texto para o teatro. O inusitado encontro entre uma mulher de 50 anos e um homem de seus trinta e poucos num apartamento vazio de frente para o mar. </a:t>
            </a:r>
            <a:br>
              <a:rPr sz="1700"/>
            </a:br>
            <a:br>
              <a:rPr sz="1700"/>
            </a:br>
            <a:r>
              <a:rPr b="0" lang="pt-BR" sz="1700" spc="-1" strike="noStrike">
                <a:solidFill>
                  <a:srgbClr val="eeece1"/>
                </a:solidFill>
                <a:latin typeface="Calibri"/>
              </a:rPr>
              <a:t>Dois desconhecidos com um único objetivo, onde o vale tudo é pouco para alcançar seus desejos.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eeece1"/>
                </a:solidFill>
                <a:latin typeface="Calibri"/>
              </a:rPr>
              <a:t>Com Lúcia Veríssimo e André Fusko, direção de José Possi Net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8 Onde Andarás (MP3).mp3" descr=""/>
          <p:cNvPicPr/>
          <p:nvPr/>
        </p:nvPicPr>
        <p:blipFill>
          <a:blip r:embed="rId2"/>
          <a:stretch/>
        </p:blipFill>
        <p:spPr>
          <a:xfrm>
            <a:off x="857268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20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USUFRUTO cenario 1a .jpg"/>
          <p:cNvPicPr/>
          <p:nvPr/>
        </p:nvPicPr>
        <p:blipFill>
          <a:blip r:embed="rId1"/>
          <a:stretch/>
        </p:blipFill>
        <p:spPr>
          <a:xfrm>
            <a:off x="0" y="227160"/>
            <a:ext cx="9144000" cy="640368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857160" y="57150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 cenário de fácil transporte, montagem e desmont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2"/>
          <p:cNvSpPr/>
          <p:nvPr/>
        </p:nvSpPr>
        <p:spPr>
          <a:xfrm>
            <a:off x="785880" y="1467000"/>
            <a:ext cx="307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ixa quadr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Peso aproximado 135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Volume 0,45 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ixa quadr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Peso aproximado 103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Volume 0,40 m³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3681360"/>
            <a:ext cx="7858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ixas de MDF com caixas de papelão, sendo um total de 7 caix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Peso aproximado 235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Volume 1,80 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Fechamentos em MDF / Teto / Te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Peso aproximado 77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Volume 1,42 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so Total dos materiais........................ 704,00 k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olume total dos materiais .....................     4,95 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786120" y="1657440"/>
            <a:ext cx="271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ixa quadr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Peso aproximado 154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 Volume 0,88 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124280" y="765000"/>
            <a:ext cx="521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 Black"/>
              </a:rPr>
              <a:t>TRANSPORTE CENÁ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aixaDeTexto 3"/>
          <p:cNvSpPr/>
          <p:nvPr/>
        </p:nvSpPr>
        <p:spPr>
          <a:xfrm>
            <a:off x="937800" y="1500120"/>
            <a:ext cx="16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dr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ixas em M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l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3.5 m cúb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ESO: 450 k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2920" y="765000"/>
            <a:ext cx="63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TRANSPORTE  DE CENÁRIO VI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ixaDeTexto 2"/>
          <p:cNvSpPr/>
          <p:nvPr/>
        </p:nvSpPr>
        <p:spPr>
          <a:xfrm>
            <a:off x="870840" y="1500120"/>
            <a:ext cx="303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passagens de avi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ama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aquinista/contra-r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perador de 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perador de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ssitente de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rod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130400" y="765000"/>
            <a:ext cx="4953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 Black"/>
              </a:rPr>
              <a:t>TRANSPORTE  EQU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trabalhos\SP\usufruto\projeto-viagem\cathering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077480" y="785880"/>
            <a:ext cx="33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CAMARIM 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928800" y="1500120"/>
            <a:ext cx="5072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uco de fruta natural sem açúcar (de preferência dos orgânicos, existem diversas marcas no merc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ão integral (100% integral de preferência com 12 grã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eijo branco e p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eito de peru, light, Sadia, sem cas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queijão Av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Água de coco (somente da fruta, se for cidade sem acesso ao coco em natura, não quere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ru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há ve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Água mineral sem g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trabalhos\SP\usufruto\projeto-viagem\cathering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928800" y="1460520"/>
            <a:ext cx="3357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afé sem açúcar (açúcar e adoçante a disposi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6 latas de coca-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6 latas de guaran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h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12 Sanduiches de presunto e quei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iscoito d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ru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6 garrafas de 2 litros de água 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UCO DE UVA NATURAL ORGÂNICO PRONTO (c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6 latas de cerv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081080" y="78588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CAMARIM P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ixaDeTexto 3"/>
          <p:cNvSpPr/>
          <p:nvPr/>
        </p:nvSpPr>
        <p:spPr>
          <a:xfrm>
            <a:off x="962640" y="1714680"/>
            <a:ext cx="5647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ra o catering necessitamos no camarim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ábua de passar ro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erro de passar ro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ara com cabides (mínimo de 8 cab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spelho com luzes quentes (incandescent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4 cadeiras com en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4 toalhas de ba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 toalhas de r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abonete Dov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anheiro com chuveiro (não precisamos de água qu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224360" y="7858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MATERIAL PARA CAMA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37:01Z</dcterms:created>
  <dc:creator>Lúcia Veríssimo</dc:creator>
  <dc:description/>
  <dc:language>en-US</dc:language>
  <cp:lastModifiedBy>Maria</cp:lastModifiedBy>
  <dcterms:modified xsi:type="dcterms:W3CDTF">2011-03-20T16:21:33Z</dcterms:modified>
  <cp:revision>36</cp:revision>
  <dc:subject/>
  <dc:title>USUFRUTO</dc:title>
</cp:coreProperties>
</file>